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50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2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771063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770400" cy="142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2"/>
          </p:nvPr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10760" y="1073160"/>
            <a:ext cx="714852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96480" y="6791400"/>
            <a:ext cx="7750440" cy="64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5DCAA48C-D63A-4EFF-854C-865BE033366A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3B392086-0DFB-48A8-B178-122C5639443A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88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710C208B-07AC-4AAE-A739-BD429046EB07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97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EB91C4A6-BB84-45A7-97D8-0E2BC504BD18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1244520" y="7346880"/>
            <a:ext cx="703584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1760" tIns="0" bIns="658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406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45B811C8-444D-4408-A4E4-47E866A1D42F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7760" y="733536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a is our best-value device with integrated camera and full feature set supporting the photography option inclu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resolution display: 65k colours, 130x130 pixel, up to 7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display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65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9CF043A7-39CB-4524-9ADC-0A3F76B31DCB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74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9A9BC41A-A9FA-449D-B6D9-EC2AA0F639FF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7760" y="678924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44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9520" indent="-19224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799"/>
              </a:spcBef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M MP CCQ SLI                                                                  Seite </a:t>
            </a:r>
            <a:fld id="{BD2D1FC4-7DD5-4854-9ED4-5A4E55FD1C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9600">
            <a:off x="5562360" y="6550200"/>
            <a:ext cx="182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 Siemens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9240" y="152280"/>
            <a:ext cx="700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58672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7760" y="114300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7280" algn="ctr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80960" algn="ctr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" Target="slide19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4560" y="2708280"/>
            <a:ext cx="42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duct details and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55680" y="6469200"/>
            <a:ext cx="7518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M MP CCQ SL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Jun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5800" y="6068880"/>
            <a:ext cx="1374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thias Wilt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ristoph Bö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268280"/>
            <a:ext cx="4103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64040" y="2637000"/>
            <a:ext cx="1768680" cy="35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1125360"/>
            <a:ext cx="5543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small housing with Lumberg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tating flash-tube for monoblock, slider and clamshell 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-by during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re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with variabl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gent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tube technology (instead of 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with phone display (e.g.,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. 0.2% battery capacity will be used for one sh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-Ey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ndesirable "vampire eye" eff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ver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tted flashlight intensity controlled by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7280" y="1425600"/>
            <a:ext cx="1806480" cy="4811760"/>
            <a:chOff x="5867280" y="1425600"/>
            <a:chExt cx="1806480" cy="4811760"/>
          </a:xfrm>
        </p:grpSpPr>
        <p:graphicFrame>
          <p:nvGraphicFramePr>
            <p:cNvPr id="227" name=""/>
            <p:cNvGraphicFramePr/>
            <p:nvPr/>
          </p:nvGraphicFramePr>
          <p:xfrm>
            <a:off x="5914800" y="4775040"/>
            <a:ext cx="1694160" cy="1462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4800" y="4775040"/>
                      <a:ext cx="1694160" cy="14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9" name="" descr=""/>
            <p:cNvPicPr/>
            <p:nvPr/>
          </p:nvPicPr>
          <p:blipFill>
            <a:blip r:embed="rId4"/>
            <a:srcRect l="0" t="0" r="0" b="894"/>
            <a:stretch/>
          </p:blipFill>
          <p:spPr>
            <a:xfrm>
              <a:off x="5867280" y="1425600"/>
              <a:ext cx="1806480" cy="35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Attachable Flash – IFL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211640" y="472428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456080" y="2190600"/>
            <a:ext cx="907920" cy="6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125360"/>
            <a:ext cx="648000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al adaptation and orientation in the car due to adjustment 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rotational 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 of your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ct housing with roll-up mechanism for the microphone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le microphone positioning in the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call acceptance (if activ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ume control via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ho compensation and nois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supply and fast-charge function for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anent display illu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 and simple installation requiring no tools or installation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ows you to swap the Car Kit easily between different cars (abou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 cars were tested, Car Kit Easy is compatible for 90% of leading European c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04000" y="3895560"/>
            <a:ext cx="2089080" cy="19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300720" y="1700280"/>
          <a:ext cx="208764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700280"/>
                    <a:ext cx="20876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ar Ki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1125360"/>
            <a:ext cx="52560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Kit Com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 Comfort for C65 will be equipped with a PTT cra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increases the value of Car Kit Comfort by additional functions and more comfort (e.g., PTT, volume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and synchronise your data or transfer multimedi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4960" t="0" r="4268" b="0"/>
          <a:stretch/>
        </p:blipFill>
        <p:spPr>
          <a:xfrm>
            <a:off x="5535720" y="1592280"/>
            <a:ext cx="1773000" cy="450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riginal 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152880" y="489600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873680" y="4869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876920" y="323856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14640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54764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1547640" y="4896000"/>
            <a:ext cx="11368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4000" y="1125360"/>
            <a:ext cx="62989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w "Themes" concept allows to change the look and feel of the phone with just one click. Five pre-defined themes will be pre-installed and more can be easily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gos, pictures, animations and polyphonic ringtones will help the user personalise his phone and help him create colourful and personal MMS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hat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125360"/>
            <a:ext cx="2828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arer: G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3573360"/>
          <a:ext cx="2235240" cy="25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573360"/>
                    <a:ext cx="22352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419640" y="1125360"/>
            <a:ext cx="3836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Featu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 c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erts &amp; messag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ple conversation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 start via address book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WAP push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133720"/>
            <a:ext cx="38368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endent o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k provider for special information regarding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42080" y="4365720"/>
            <a:ext cx="117792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2987640" y="4162320"/>
            <a:ext cx="44658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t Messaging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Wireless Village 1.1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Foto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125360"/>
            <a:ext cx="518472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addition to basic functions the new Photo Editor offers more advanced features and  add-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oom, rotate, flip h/v, mirror, brightness, contrast, resize, cut, crop / clip, p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al filter effects like sepia, greyscal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te of additional objects like text, borders / frames, graphic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ial effects like morp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96000" y="1197000"/>
            <a:ext cx="1582200" cy="3168360"/>
            <a:chOff x="5796000" y="1197000"/>
            <a:chExt cx="1582200" cy="316836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796000" y="1197000"/>
              <a:ext cx="1582200" cy="31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160320" y="1982880"/>
              <a:ext cx="845640" cy="83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1693800" y="5103720"/>
            <a:ext cx="701640" cy="851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042920" y="5103720"/>
            <a:ext cx="72540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2386080" y="5103720"/>
          <a:ext cx="68112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86080" y="5103720"/>
                    <a:ext cx="68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8"/>
          <a:srcRect l="18321" t="0" r="0" b="0"/>
          <a:stretch/>
        </p:blipFill>
        <p:spPr>
          <a:xfrm>
            <a:off x="4788000" y="4349880"/>
            <a:ext cx="1071360" cy="133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rcRect l="19810" t="0" r="0" b="0"/>
          <a:stretch/>
        </p:blipFill>
        <p:spPr>
          <a:xfrm>
            <a:off x="5581800" y="4991040"/>
            <a:ext cx="109512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16040" y="2217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mal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8680" y="220500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ma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2720" y="2205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umbo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002200" y="2637000"/>
          <a:ext cx="223380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2200" y="2637000"/>
                    <a:ext cx="2233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625840" y="2637000"/>
          <a:ext cx="2233440" cy="22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50920" y="2637000"/>
          <a:ext cx="2233440" cy="22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94240" y="150804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 editor / 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39040" y="1176480"/>
            <a:ext cx="38944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heme consists of the following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r scheme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and menu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Wallpap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ferred book ring 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reensav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-search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in-inpu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i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t changeable via the settings men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229440" y="1260360"/>
          <a:ext cx="10731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944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7760" y="1260360"/>
          <a:ext cx="107316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776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035680" y="2413080"/>
          <a:ext cx="107316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5680" y="241308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238800" y="4761000"/>
          <a:ext cx="1073160" cy="10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38800" y="476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242040" y="3586320"/>
          <a:ext cx="1073160" cy="107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2040" y="358632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234120" y="2417760"/>
          <a:ext cx="1073160" cy="1073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24177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024520" y="4772160"/>
          <a:ext cx="1073160" cy="1073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24520" y="47721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035680" y="3591000"/>
          <a:ext cx="1073160" cy="1073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5680" y="359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85680" y="4803840"/>
          <a:ext cx="25401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4803840"/>
                    <a:ext cx="25401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935600" y="1674720"/>
            <a:ext cx="1628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groun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each sk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06800" y="3379680"/>
            <a:ext cx="1909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, Icons and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ame for all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10120" y="5276880"/>
            <a:ext cx="1816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sche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colo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44480" y="1236600"/>
          <a:ext cx="148608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448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495520" y="1236600"/>
          <a:ext cx="1486080" cy="14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542960" y="2863800"/>
          <a:ext cx="1650960" cy="165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2960" y="286380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35800" y="1638360"/>
          <a:ext cx="1650960" cy="1650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35800" y="163836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>
            <a:off x="1614240" y="5567400"/>
            <a:ext cx="609480" cy="2142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99880" y="5324400"/>
            <a:ext cx="966600" cy="2667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81040" y="4914720"/>
            <a:ext cx="719280" cy="16668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040" y="5843160"/>
            <a:ext cx="1490760" cy="31932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218960" y="5810040"/>
            <a:ext cx="928440" cy="104760"/>
          </a:xfrm>
          <a:prstGeom prst="line">
            <a:avLst/>
          </a:prstGeom>
          <a:ln w="9360">
            <a:solidFill>
              <a:srgbClr val="ff8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40160" y="4775040"/>
          <a:ext cx="2539800" cy="165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0160" y="4775040"/>
                    <a:ext cx="253980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H="1" flipV="1">
            <a:off x="3914280" y="4876560"/>
            <a:ext cx="723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00200" y="5267160"/>
            <a:ext cx="1199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105080" y="562932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3666960" y="5762520"/>
            <a:ext cx="9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61880" y="5829120"/>
            <a:ext cx="15145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445520" y="3727440"/>
          <a:ext cx="1650960" cy="165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45520" y="372744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483320" y="1660680"/>
          <a:ext cx="177840" cy="16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83320" y="1660680"/>
                    <a:ext cx="1778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1285920" y="2485800"/>
            <a:ext cx="16200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209760" y="2457000"/>
            <a:ext cx="257400" cy="8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51800" y="3138480"/>
            <a:ext cx="581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lor s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6160" y="1117440"/>
            <a:ext cx="73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EM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packag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phone mount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it Cove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pad + joystick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ack Li-Ion 600 mAh, battery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charg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SUPPLY/L55-R65/Eu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(German/English, Italian, Fren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box/inlay C65/AC-LEPORELLO 1 (eng./germ./fren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ff8200"/>
              </a:buClr>
              <a:buFont typeface="Wingdings" charset="2"/>
              <a:buChar char="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 operator package: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NA/LAM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APAC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 of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7080" y="341280"/>
            <a:ext cx="2174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627280" y="1484280"/>
            <a:ext cx="2171880" cy="43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5   …what a customer might complain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1197000"/>
            <a:ext cx="714528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current software version 1 it is not possible to use 2 of the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installed games. The device will switch off and has to be reboo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update process for the C65 is under evaluation and we will kee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in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list regarding software versions will be provided as soon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might happen that the device freezes sporadically when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tions as screensave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move the batt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eed a key for removing the Clipit cov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not it is possible to damage the silver Inlay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and the battery have to be remov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co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ing the SIM card might be very difficult when you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lift the card a little b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can only be opened with a lot of  tr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scroll through the menu some time delay might occ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00720" y="3716280"/>
            <a:ext cx="1224000" cy="2736720"/>
            <a:chOff x="6300720" y="3716280"/>
            <a:chExt cx="1224000" cy="27367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6300720" y="3716280"/>
              <a:ext cx="1224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582240" y="4395240"/>
              <a:ext cx="654120" cy="7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 flipV="1">
            <a:off x="4932360" y="3789360"/>
            <a:ext cx="1800360" cy="287280"/>
          </a:xfrm>
          <a:prstGeom prst="line">
            <a:avLst/>
          </a:prstGeom>
          <a:ln w="2556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634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tion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do not forget to give feedback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there are further questions after the train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se just contact Matthias or Christoph!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keep you informed about news and changes!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5720" y="4048560"/>
            <a:ext cx="43340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MS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-Resolution 65k Colour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active Themes &amp;                                   convenient  Download As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fferent silent alert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52244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78280" y="1533600"/>
            <a:ext cx="161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050920" y="1533600"/>
            <a:ext cx="1609920" cy="193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67560" y="1555920"/>
            <a:ext cx="1530000" cy="194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25960" y="4051800"/>
            <a:ext cx="4333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 MIDP 2.0 /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PS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M conten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rDA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56000" y="1368360"/>
            <a:ext cx="2187360" cy="437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1080" y="1947960"/>
            <a:ext cx="302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ndy, fashionable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gonomic, mon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344840"/>
            <a:ext cx="30225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As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t Mess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890960"/>
            <a:ext cx="2783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Pit Covers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139392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1840" y="148428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00" y="378936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00" y="390528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139392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7280" y="148428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33548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1947960"/>
            <a:ext cx="3022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: 130 x 130 pixel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5k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59880" y="4451400"/>
            <a:ext cx="171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03640" y="2895480"/>
            <a:ext cx="819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3440" y="2978280"/>
            <a:ext cx="1295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ing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388944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GSM (GSM Phase 2/Phase 2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RS Multislot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ple b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A: 90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FTA: 85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oders: FR, HR, EFR, A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36576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/talk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-300 h/250-300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h for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logos: incoming, outgoing,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part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125360"/>
            <a:ext cx="31687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hysics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80 cc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 104 x 45 x 17 m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ok e.g. for neck/wrist 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able par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2200" y="333360"/>
            <a:ext cx="4124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24360" y="3603600"/>
            <a:ext cx="1604880" cy="142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012000" y="3789360"/>
            <a:ext cx="1528560" cy="10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1052640"/>
            <a:ext cx="360036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x 130 pixel, 65k colou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.3 x 27.3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tery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plug-in (3V/1,8V), SAT cl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oustic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ndsfree spe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backlight: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: 5-way joyst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/end, 2 soft keys, 12-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lent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052640"/>
            <a:ext cx="35290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phical user interfa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7 l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ividual selectable UI /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igurable UI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or specific menu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ve text inpu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font siz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, jumbo, applicatio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, APAC, NA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r var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7480" y="333360"/>
            <a:ext cx="4210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1125360"/>
            <a:ext cx="372924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 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book: 250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ndar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-do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clock/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culator/curr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, concatenated 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 to group, predefined tex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ty servi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Java clients to be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907920"/>
            <a:ext cx="338436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Rights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5480" y="333360"/>
            <a:ext cx="4295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8040" y="1185840"/>
            <a:ext cx="372924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tion Bas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DP 2.0,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WML/XHTML dual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 download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, HTTP, Java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for user 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3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t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ons, wait ani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 chords, MIDI, W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 nois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rdable in AMR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oto handling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bum,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70400" y="1133640"/>
            <a:ext cx="2865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hangeable 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, JAVA apps, ring tones, wallpapers, screen sa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tachable flash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B, RS232, 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5640" y="333360"/>
            <a:ext cx="432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880" y="1413000"/>
            <a:ext cx="72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4440" y="15271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520" y="1413000"/>
            <a:ext cx="93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87720" y="1413000"/>
            <a:ext cx="83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84960" y="1413000"/>
            <a:ext cx="779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80840" y="15271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200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2184480"/>
            <a:ext cx="80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097000"/>
            <a:ext cx="146844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5640" y="2086200"/>
            <a:ext cx="1444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00320" y="2097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8040" y="2184480"/>
            <a:ext cx="142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097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24360" y="21844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040" y="2756160"/>
            <a:ext cx="75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1880" y="2668680"/>
            <a:ext cx="146844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9560" y="2756160"/>
            <a:ext cx="1162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00320" y="2668680"/>
            <a:ext cx="14716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9720" y="2756160"/>
            <a:ext cx="99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T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920" y="2756160"/>
            <a:ext cx="933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1880" y="3240000"/>
            <a:ext cx="146844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9200" y="3327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240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2800" y="3327480"/>
            <a:ext cx="677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240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99440" y="3327480"/>
            <a:ext cx="1226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Kit Comfort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KC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840" y="389916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811680"/>
            <a:ext cx="1468440" cy="57132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3240" y="399744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5680" y="3899160"/>
            <a:ext cx="108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MH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1880" y="4383000"/>
            <a:ext cx="1468440" cy="57168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45640" y="4568760"/>
            <a:ext cx="124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4383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09440" y="4470480"/>
            <a:ext cx="140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tenna HMH-6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954680"/>
            <a:ext cx="14698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0440" y="50421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26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36800" y="5613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Data Adap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6893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4480" y="468000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4905360"/>
            <a:ext cx="250920" cy="1476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96560" y="489600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122800"/>
            <a:ext cx="250920" cy="14760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560" y="511344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338800"/>
            <a:ext cx="250920" cy="14760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4120" y="5329440"/>
            <a:ext cx="63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a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03040" y="5546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00880" y="5794560"/>
            <a:ext cx="1614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00" y="3240000"/>
            <a:ext cx="1469880" cy="571680"/>
          </a:xfrm>
          <a:prstGeom prst="rect">
            <a:avLst/>
          </a:prstGeom>
          <a:solidFill>
            <a:srgbClr val="ffd14f"/>
          </a:solidFill>
          <a:ln w="3816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960" y="332748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41880" y="2097000"/>
            <a:ext cx="1468440" cy="571680"/>
          </a:xfrm>
          <a:prstGeom prst="rect">
            <a:avLst/>
          </a:prstGeom>
          <a:solidFill>
            <a:srgbClr val="6699cc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7200" y="2184480"/>
            <a:ext cx="5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1212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82600" y="2184480"/>
            <a:ext cx="1537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12120" y="323532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040" y="3322800"/>
            <a:ext cx="19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380700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46600" y="3894120"/>
            <a:ext cx="163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2120" y="266688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8760" y="27543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EMEA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0:06:44Z</dcterms:created>
  <dc:creator>Markus Kaiser</dc:creator>
  <dc:description/>
  <dc:language>en-US</dc:language>
  <cp:lastModifiedBy> </cp:lastModifiedBy>
  <dcterms:modified xsi:type="dcterms:W3CDTF">2004-06-04T06:27:58Z</dcterms:modified>
  <cp:revision>531</cp:revision>
  <dc:subject/>
  <dc:title>ICM Styleguide 2-bo</dc:title>
</cp:coreProperties>
</file>